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C8E-F385-4C02-9699-7A8BD8BA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5B3-5BE4-481B-94A7-3B6A0EB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E2C-EC1A-4DFD-AB75-BE1C699C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695-3A3C-4909-BA75-437CC7E9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687-742E-4FC0-98BC-6F59B3D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714-609F-4CB8-A941-B1B8DC07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B70-6EC0-4B25-AFD9-2B815A4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D7C-F09F-4218-A04A-0C6E8E3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C3F-D65D-413E-A63F-777143BD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A74-48F2-4B16-A805-E0769BC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3EB-EDA4-4C5B-AC48-C32CEAF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3C2-9149-4857-B1FD-FF9E9F4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376-C98D-49DC-9FB3-9A1D4A99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5:20Z</dcterms:created>
  <dc:creator>Profesor</dc:creator>
  <dc:description/>
  <dc:language>en-US</dc:language>
  <cp:lastModifiedBy>Profesor</cp:lastModifiedBy>
  <dcterms:modified xsi:type="dcterms:W3CDTF">2010-04-09T12:03:57Z</dcterms:modified>
  <cp:revision>3</cp:revision>
  <dc:subject/>
  <dc:title>Diapositiva 1</dc:title>
</cp:coreProperties>
</file>